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9B8-28A1-41C7-B8CF-00F5DE3D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665-5FE0-4D44-A2A4-BBC0425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EA4-AE3B-4D6B-AFFF-A3D5AFC1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0D9-AC6D-4AB2-B9A9-CA7E71CB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4D0-B206-43E4-9C71-57485650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9D2C-D392-4E94-87B8-B9A04B0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C2A1-B45E-4A90-A869-AAFFEBEB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E24B-10CF-42B3-A2EE-272E195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EAB0-0888-42D6-8301-790E479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7958-7178-484A-A517-FB46F80A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2474-CDC9-4750-AF10-F037028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581-9851-46D5-9B39-8D9E99C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D154-9C18-4E26-A2B7-B3289D0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4CAF-2790-4E06-B505-7FC8E84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AD8F-DBB3-47D3-B4DC-DBDACD7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4DBF-38CC-43CF-A0FF-BDC5162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12FC-DE34-47B8-BA74-EFE88816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11C-1898-4828-9C87-914EF14A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344-F7A1-45ED-8F76-ABBB9B5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FD6-995F-41FE-A6E7-8A3D81B9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E9A-35DF-4ABF-B072-61AB513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51F-4D73-415A-8CBD-18C998D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AE9-EC08-43A8-B6D1-8953DDE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C68-8728-4EEA-B199-0BA0B66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136-69A5-4F08-BCFA-899359E6F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F1C-BB8A-44C8-A188-1B71BDE6E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Rounding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057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6576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960" y="5257800"/>
            <a:ext cx="8004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3392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6576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960" y="52578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73392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41911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3 2 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" y="5029200"/>
            <a:ext cx="894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3 is less than 4 we do not chang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5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981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0240" y="5029200"/>
            <a:ext cx="8954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numbers to left of 5 to 0’s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429000"/>
            <a:ext cx="76176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35,327 rounded to the nearest thousand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41972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5, 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560" y="5029200"/>
            <a:ext cx="821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where the dollar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057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3680" y="50292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d number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0574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800" y="4800600"/>
            <a:ext cx="803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great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5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4520" y="4800600"/>
            <a:ext cx="8347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8 is greater than 5 add 1 to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5.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274320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ollar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6.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960" y="4800600"/>
            <a:ext cx="8722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5 to a 6 and change all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s to the right to 0’s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42900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388620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Use rounding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86868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the question asks you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o estimat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the question ask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about how many”…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an exact answer isn’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possibl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When an answer is difficult 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o obtain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$5.87 rounded to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nearest dollar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45720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$ 6.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" y="5029200"/>
            <a:ext cx="8562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enths 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057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3680" y="5029200"/>
            <a:ext cx="756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d 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0574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0040" y="5029200"/>
            <a:ext cx="8038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great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057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8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5029200"/>
            <a:ext cx="8488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nce 7 is greater than 5, add 1 to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3505320"/>
            <a:ext cx="76212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360" y="281952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th plac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057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8760" y="5029200"/>
            <a:ext cx="7463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ange the 8 to a 9 and drop th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s to the right of the 9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.871 rounded to the nearest tenth place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3434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4. 9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morize this Po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057400"/>
            <a:ext cx="8686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2860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ind your numbe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6576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6200" y="4952880"/>
            <a:ext cx="6587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ircle the number in the ten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 place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0574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ook right next door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6576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114800"/>
            <a:ext cx="3049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59760" y="5389560"/>
            <a:ext cx="7706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aw an arrow to the right of th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umber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0574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4 or less, just ign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3526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42900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809880"/>
            <a:ext cx="3049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1600" y="5389560"/>
            <a:ext cx="7790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8 is larger than 4 so go to the nex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line of the poem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07196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6 8,9 7 1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191120"/>
            <a:ext cx="685800" cy="914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572000"/>
            <a:ext cx="3045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2800" y="5389560"/>
            <a:ext cx="352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dd 1 to the 6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560" y="3352680"/>
            <a:ext cx="7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 this number to the neares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n thousan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5 or more, add 1 more.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0,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6120" y="4724280"/>
            <a:ext cx="7928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dd 1 to the 6 and all the number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the right of the 7 become 0’s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13372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368,971 rounded to the nearest ten thousand i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2670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3 7 0,0 0 0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oug McFarland</cp:lastModifiedBy>
  <dcterms:modified xsi:type="dcterms:W3CDTF">2003-01-26T02:34:52Z</dcterms:modified>
  <cp:revision>9</cp:revision>
  <dc:subject/>
  <dc:title>Math Flash</dc:title>
</cp:coreProperties>
</file>